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4CF-58F1-49B6-8D35-DAB34EF6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4F1-214F-4378-83C2-F7BD104A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545-5EDD-40B3-8697-0A1730B9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DB2-3E8B-468E-B403-6A332A53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CBAB-517D-41D8-88E2-B8757133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34FB-9890-4C06-A75E-FC80B501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37ED-47BC-401B-8C4B-D9BAE3C3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F7DD-BF52-44B4-875E-91D56CB4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5DED-0F03-4243-A48F-D0C5F8A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F736-B7E7-49EA-A3D3-10C3A1D7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C283-A033-4C92-9D3E-B24233EE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9F4-4AEC-4A21-9C39-14E08F8D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A862-454F-4A23-9A98-DE3E7E2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4B0B-A244-45E6-9165-C3E1F64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D756-D1EC-43E3-B770-94DC942C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C3CE-D9FB-4EED-A943-0162CAEF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EBB3-285B-42FA-A0C8-94BB74DF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A93-FBB3-4455-9F35-7C6AA216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436-6DCA-44FC-9CD5-FB6F91FE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A6E-6C8B-413A-AF24-B430622B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04F-7E1B-4B14-8351-C521C010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A59-8FD7-4E20-B216-E5D5C71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707-56D1-4A09-8565-12A2504C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0B9-42E7-4A8B-A157-AB7A7C35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C527-91D6-430A-8FC3-62B5A09DA47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B53B-51C3-40A8-8D98-3441C76BD6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5875-7515-4002-A25D-9AD7C133225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5037-6C77-49DB-BADF-C2955CBB5A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980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Выполнение проектов на уроках технологии.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360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012000" y="608004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Организационный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820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. Выбери актуальную для себя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. Найди как можно больше информации по эт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. Четко сформулируй и запиши, что ты хочешь сдел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4. Определись и подумай 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времен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– как долго ты будешь решать эту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материалах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– какие имеются в твоем распоря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тоим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колько это будет сто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функция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– для выполнения каких функций нужен данный объек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внешнем виде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– как он будет выгляд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5. Развивая свои идеи, помни, что простые идеи часто – лучшие ид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572000" y="60796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Технологический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6. Тщательно продумай и запиши технологическую последовательность решения твоей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7. Приступай к практическому воплощению выбранной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Заключительный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8.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Решил ли ты проблему? Подумай сам и спроси об этом других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9. Выполни практическое испытание своего изделия (услуги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0. При необходимости внеси изменения и дополнения в свой про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1. Оформи пояснительную записку, соблюдая установленные треб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2. Подготовка к защите творческого проек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3772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Georgia"/>
              </a:rPr>
              <a:t>Проект состоит из двух ча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Изделие.               Пояснитель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запис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2160720" cy="1986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48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Изделие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Должно быть посильно в изгото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С использованием доступны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Безопасно в изготовлении и исполь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Отражать творчество и индивид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Быть эстетически красивым, модным, практичным и функциона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Должно быть полезно для общества и конкретн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59280" y="5122800"/>
            <a:ext cx="2158920" cy="173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Пояснительная  записка.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Это своеобразный отчёт вашей деятельности, где отражается вся работа над проектом,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«от возникновения идеи до испытания и оценки издел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ояснительная записка выполняется в специальной тетради или на стандартных листах белой бумаги печатным способом с рисунками, чертежами, таблицами,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19280" y="532620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0" y="580500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451640" y="5805360"/>
            <a:ext cx="129564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250920" y="60796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853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Разделы пояснительной  записки.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31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ыбор и обоснование тем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Банк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ыбор и описание базов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Дизайн- спецификация. Выбор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Технология из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Техника безопасности при выполнении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Экологическое об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Экономическое обоснование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амо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ловарь тер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524720" y="587700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Творческий проект –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самостоятельно разработанное и изготовленное изделие от идеи до воплощения, обладающее объективной или субъективной новизной.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96360" y="580536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Виды проектов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1557000"/>
            <a:ext cx="84247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1" action="ppaction://hlinksldjump"/>
              </a:rPr>
              <a:t>Интеллектуа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2" action="ppaction://hlinksldjump"/>
              </a:rPr>
              <a:t>Материа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3" action="ppaction://hlinksldjump"/>
              </a:rPr>
              <a:t>Эколог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4" action="ppaction://hlinksldjump"/>
              </a:rPr>
              <a:t>Серви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5" action="ppaction://hlinksldjump"/>
              </a:rPr>
              <a:t>Комплек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Интеллектуаль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сание модернизированных, оригинальных технологий обработки, конструкционных материалов, продуктов, почвы; разработка программ  для ЭВМ;  дизайнерские разработки оформления   интерьера помещений; рекламные девизы, слоганы, ярлыки и товарные знаки промышленной продукции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Материаль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готовление инструментов  и  приспособлений,  наглядных  пособий, бытовых устройств, пошив одежды, изготовление упаковок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Экологически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ы очистки загрязненных производственных помещений, лесных и сельскохозяйственных угодий, водоемов, разработка вариантов сбора и использования вторичного сырья, как для объектов труда учащихся, так и для промышленной пере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Сервис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ы, направленные на  сбор и предоставление информации, обслуживание и ремонт оборудования, ремонт и благоустройство жилья, оказание различных услуг населению, организацию  праздников,  торжеств и т.д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Комплекс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лючающие интеллектуальные, материальные,  экологические и сервисные составляющие. Например, оформление деловых бумаг, сервировка стола, оформление интерьера квартиры, моделирование причесок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946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Georgia"/>
              </a:rPr>
              <a:t>Работу над проектом можно разделить на три этап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Технолог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Организацио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Заключи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4:21:13Z</dcterms:created>
  <dc:creator>1</dc:creator>
  <dc:description/>
  <dc:language>en-US</dc:language>
  <cp:lastModifiedBy>Московченко</cp:lastModifiedBy>
  <dcterms:modified xsi:type="dcterms:W3CDTF">2009-03-09T16:01:43Z</dcterms:modified>
  <cp:revision>13</cp:revision>
  <dc:subject/>
  <dc:title>Выполнение проектов на уроках технологии.</dc:title>
</cp:coreProperties>
</file>